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96C-CA9A-4A2F-AB6D-22910394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3B8-CED3-42D1-8D11-492E43F8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7BE-560D-42E8-9A56-D869358F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51D-4808-486D-8E45-591CDCA0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3E58-7CED-4E3C-BB30-457D8CA9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1BB3-4D12-4B1B-85F4-41AA29F8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2301-131B-4C1B-B006-92EAD18A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86A7-395C-49FE-B115-FE8826B7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B594-EF86-4D7C-AC8D-6150CB92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0F6C-2D75-43A0-A7E6-D6EF84EF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931E-16FC-4FE8-BAEE-FFE8C5CE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561-4300-485D-B04A-0CF17CE3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2FFB-9B93-4475-B375-C52B194D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88B6-40AE-4266-B0B7-66FA2C06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917E-FA39-4D62-BC02-5435C4EF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281D-3110-4C4F-BB76-897499A3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1639-3545-4F52-8951-89230231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413-FE58-433F-B112-2CBD50EC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49F-8AA8-4E96-BE93-0D0B67B5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C25-1594-408B-B414-816F9F84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04D-A2FC-4748-8393-1E20FC32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897-3F14-4348-8AC8-50F8D701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E26-664A-4BAE-A763-CF2EFE5F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73E-34B6-4F34-B4DA-7B2029FE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4304-324F-4217-A2EC-F54FB0BB9E3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A116-5F5D-470B-89DB-61CFA81BE7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Judges 6:1 – 8: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3; Lesson 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68-7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429000"/>
            <a:ext cx="8076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114800" cy="2664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380880" y="2971800"/>
            <a:ext cx="3152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boa View of Jezre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673880" cy="349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343400" y="3809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arod Valley of Jezr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28600" y="3395520"/>
            <a:ext cx="3638520" cy="3462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648320" y="4194000"/>
            <a:ext cx="36576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990720"/>
            <a:ext cx="1676520" cy="548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162920" y="1676520"/>
            <a:ext cx="1371600" cy="4114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 Gives Gideon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confirmation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would save Israel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6:36-4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spoke to Go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ill put a fleece of wool on the flo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rst sig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f dew is on the fleece but not on the floor, I will know that you (God) will save Israel by my han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xt day – it was as he had said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sig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f dew is on the floor but not on the fleece, I will know that you (God) will save Israel by my han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xt day – it was as he had said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:1-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rted with 32,000 men in his a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aid he had too many men, v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redu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2,000 – 22,000 = 10,000 l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aid he still had too many m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redu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0,000 – 9,700 = 300 l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ryone else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31,700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sent h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lessons do we learn from these numbers and these tes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Romans 8:3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parations For The Att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7:9-18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to go to the Midianite camp and listen, v9-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built up his confidence, v13-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n, his strategy, v16-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his army: “Do as I do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7760" y="277920"/>
            <a:ext cx="56386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ttle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7:19-2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23623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s army followed his instructions 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tacked after the night watch chang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lew the trump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oke the pitchers revealing the lam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ied, “The sword of the Lord and of Gideon, v19-2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confusion, the Midianites slaughtered each other.  The rest ran, but were pursued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22-2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1295280"/>
            <a:ext cx="5257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57600" y="277920"/>
            <a:ext cx="5486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ctory (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7:24 - 8:3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ssage sent to Ephraimites 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p the Midianites passage over the Jordan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ptured 2 leaders of the Midianites and cut off their heads, 24-2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, the Ephraimites complain, 8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: Isn’t the gleaning of Ephraim better than the harvest of Abiezer?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lain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8:2-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1295280"/>
            <a:ext cx="4572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Destroys The Altar of Ba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ianites Gather Against Isra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Gives Gideon Sig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Prepares His Ar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attle (7:19-2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Victory (7:24 - 8: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was evil in the sight of the Lord, v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 years of oppression, v1-3 &amp; 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d in dens and caves, v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y poor people, v4 &amp; 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ember the cycle - Judges 2:14-1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– Who Were The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, Son of Abraham and Ketura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fled to the land of Mid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married Zipporah, a Midian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ined Moab in trying to curse Isra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il influence on Israel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slaughtered the Midianites earl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d located in the western part of the Arabian desert; south of E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290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Land of M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95480" y="5715000"/>
            <a:ext cx="914400" cy="8380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Oph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1600200"/>
            <a:ext cx="762120" cy="12952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Valley of Jez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00040" y="1905120"/>
            <a:ext cx="1600200" cy="91440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7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ent a proph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inds them of former delivera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inds them they were warned about serving other go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, “ye have not obeyed my voic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God called Gideon to save Israel, v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– Who Was 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fth recorded judge 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ter called “Jerubbaal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ngest son of Joash of the Abiezrites (tribe of Manasse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ved in Ophrah, probably in the territory of Issachar, west of the Jordan Ri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ighty man of valor (brave); humble; obedient; cauti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Call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11-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the Lord appeared to him, v11-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could not understand how a poor man like him could save Israel – humble, v15-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asked for a sign – being cautious, v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given a sign, v18-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altar as a memorial, v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Destroys The Altar of Ba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ord sai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troy your father’s altar of Baal and to cut down the pole of Ashtaro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ild an altar to God and offer your  father’s bullock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obeys the Lord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ty found Gideon responsible for damag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8-3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ash challenged Baal to punish Gide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31-3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 “Jerubbaal” – “Baal fighter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Gather Against Isra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33-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ites, and others east of Jordan, came across the Jordan to the valley of Jezreel, v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pirit of the Lord came upon Gideon and he blew the “call” trumpet, v3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, Manasseh and other northern tribes met Gideon, v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43:27Z</dcterms:created>
  <dc:creator>Frank D Vines</dc:creator>
  <dc:description/>
  <dc:language>en-US</dc:language>
  <cp:lastModifiedBy>Frank D Vines</cp:lastModifiedBy>
  <dcterms:modified xsi:type="dcterms:W3CDTF">2005-02-09T23:57:39Z</dcterms:modified>
  <cp:revision>29</cp:revision>
  <dc:subject/>
  <dc:title>Slide 1</dc:title>
</cp:coreProperties>
</file>